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402-EB16-403E-9294-8FD78D309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17B0-795F-4FE7-8324-64E68EE7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C40-A1DE-4769-B26A-352A3D78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82B-8113-4A65-B0EC-69C221E5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3DA-A83C-44A7-A88F-5DDE7283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BF5-683F-446C-AFEE-2E4CA96A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33B-A184-4FE0-8A3B-E5C388D5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E1B-57D6-4F46-AF4A-BDF8D32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E5C-C0CB-471D-A3A7-21BD7E05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1AA-C517-465B-AA08-DFD9C7E1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472-1817-432B-B904-857221DD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AAE-5C89-4E38-870F-3E5952D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B3D-9D7F-4BD8-BE0B-E4E3C9FA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DB1-95A1-4CD1-B3FB-2EEF61D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D31D-BFFC-4A90-B8F2-CD25A79F5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una Parr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Bruna. Yo vivo en New York. Tengo 14 años. Estoy feliz y cansada. Amo música. Yo no tengo her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1:40Z</dcterms:modified>
  <cp:revision>101</cp:revision>
  <dc:subject/>
  <dc:title>Profile</dc:title>
</cp:coreProperties>
</file>